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003C-D126-4DDC-B938-ED8EA17CD6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8762-13FE-4D9D-A7E0-987AE3837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83C2-DAB9-485F-933C-53A1F1B73B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2C2F-FBCE-472B-9B40-DD4561CA0A0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BD83-419E-4AEA-AD75-7A9ACE012A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BAF8-8310-44D9-8A63-263B69427B3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5EAF-2679-4565-ADF3-9C6003A4C0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50D3-CB5A-4910-81F3-684A9424075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68C2-8256-4B8C-92D7-AA3D7F882D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E208-17A7-480E-8BC3-3A209E4FAD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0F26-D055-4F4D-A012-DD74C09324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BCE5-F06D-4AC7-9C6E-DC9BB52B26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C257-4E6B-41AC-9C29-ED5113B8EC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6192-0AE2-49F7-8DAF-5054B04B0C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6B62-D8F2-4651-BFD6-0DD1B69439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749C-605D-4321-B68A-ED0B2B9F0E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1E83-6956-4415-91A2-31845FA795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D432-D277-43A0-BA54-FA30FF7623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C7BC0-9B4D-4AE0-A7B6-14ECE5AB2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83A00-DA34-4384-B6E5-433F5EB97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01263-E847-4CD8-844C-BC94AC153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64555-8121-449C-AAB3-5EA43ADFE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FCEE3-153E-430B-9D0C-98F6782C1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C3915-B52F-4E84-99D9-A7497A18F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E7148-C272-4D3A-9707-D719803B5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A96C0-F23C-4E17-A9CD-E7D2EB93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0BF46-194A-4C49-88C3-5E2458E8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36A2A-4081-4C01-8453-6CAE9EA0D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44CA0-838E-4189-816B-05DC3F27E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20CB1-04F7-4B9B-A111-AF445C37E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5BB0-0452-493F-AE79-DBA852CB982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400 h 909720"/>
              <a:gd name="textAreaBottom" fmla="*/ 593280 h 909720"/>
            </a:gdLst>
            <a:ahLst/>
            <a:rect l="textAreaLeft" t="textAreaTop" r="textAreaRight" b="textAreaBottom"/>
            <a:pathLst>
              <a:path w="21600" h="21600">
                <a:moveTo>
                  <a:pt x="21600" y="0"/>
                </a:moveTo>
                <a:arcTo wR="21600" hR="7533" stAng="-5400000" swAng="-5400000"/>
                <a:lnTo>
                  <a:pt x="0" y="10322"/>
                </a:lnTo>
                <a:arcTo wR="21600" hR="7533" stAng="10800000" swAng="-2069836"/>
                <a:lnTo>
                  <a:pt x="11825" y="20784"/>
                </a:lnTo>
                <a:lnTo>
                  <a:pt x="21600" y="16461"/>
                </a:lnTo>
                <a:lnTo>
                  <a:pt x="11825" y="10505"/>
                </a:lnTo>
                <a:lnTo>
                  <a:pt x="11825" y="14250"/>
                </a:lnTo>
                <a:arcTo wR="21600" hR="7533" stAng="8730164" swAng="1844315"/>
                <a:lnTo>
                  <a:pt x="373" y="8928"/>
                </a:lnTo>
                <a:arcTo wR="21600" hR="7533" stAng="-10574479" swAng="5174479"/>
                <a:close/>
              </a:path>
              <a:path fill="darkenLess" w="21600" h="21600">
                <a:moveTo>
                  <a:pt x="21600" y="0"/>
                </a:moveTo>
                <a:arcTo wR="21600" hR="7533" stAng="-5400000" swAng="-5400000"/>
                <a:lnTo>
                  <a:pt x="0" y="7533"/>
                </a:lnTo>
                <a:arcTo wR="21600" hR="7533" stAng="10800000" swAng="-225521"/>
                <a:lnTo>
                  <a:pt x="373" y="8928"/>
                </a:lnTo>
                <a:arcTo wR="21600" hR="7533" stAng="-10574479" swAng="5174479"/>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971"/>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971"/>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79" hR="21600" stAng="10800000" swAng="5400000"/>
                <a:lnTo>
                  <a:pt x="12041" y="0"/>
                </a:lnTo>
                <a:arcTo wR="7079" hR="21600" stAng="-5400000" swAng="3105942"/>
                <a:lnTo>
                  <a:pt x="21375" y="16200"/>
                </a:lnTo>
                <a:lnTo>
                  <a:pt x="16638" y="21600"/>
                </a:lnTo>
                <a:lnTo>
                  <a:pt x="11451" y="16200"/>
                </a:lnTo>
                <a:lnTo>
                  <a:pt x="13932" y="16200"/>
                </a:lnTo>
                <a:arcTo wR="7079" hR="21600" stAng="-2294058" swAng="-2686428"/>
                <a:lnTo>
                  <a:pt x="9560" y="1370"/>
                </a:lnTo>
                <a:arcTo wR="7079" hR="21600" stAng="-5819514" swAng="-4980486"/>
                <a:close/>
              </a:path>
              <a:path fill="darkenLess" w="21600" h="21600">
                <a:moveTo>
                  <a:pt x="0" y="21600"/>
                </a:moveTo>
                <a:arcTo wR="7079" hR="21600" stAng="10800000" swAng="5400000"/>
                <a:lnTo>
                  <a:pt x="7079" y="0"/>
                </a:lnTo>
                <a:arcTo wR="7079" hR="21600" stAng="-5400000" swAng="419514"/>
                <a:lnTo>
                  <a:pt x="9560" y="1370"/>
                </a:lnTo>
                <a:arcTo wR="7079" hR="21600" stAng="-5819514" swAng="-498048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eleborgne</cp:lastModifiedBy>
  <dcterms:modified xsi:type="dcterms:W3CDTF">2012-09-10T06:53:24Z</dcterms:modified>
  <cp:revision>112</cp:revision>
  <dc:subject/>
  <dc:title>Slide 1</dc:title>
</cp:coreProperties>
</file>